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9.jpeg" ContentType="image/jpeg"/>
  <Override PartName="/ppt/media/image21.jpeg" ContentType="image/jpeg"/>
  <Override PartName="/ppt/media/image16.jpeg" ContentType="image/jpeg"/>
  <Override PartName="/ppt/media/image28.jpeg" ContentType="image/jpeg"/>
  <Override PartName="/ppt/media/image20.png" ContentType="image/png"/>
  <Override PartName="/ppt/media/image19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97044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B744299-FF44-4DB7-8A48-F4D667943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190767A-354C-48FB-9DAB-E508A5041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53CAA95-7B27-4AD7-9133-7196B2B80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E865ED4-4FA4-4B20-9EC5-7D032AEB1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91CCBC8-9480-4230-AE31-55FB6F2A8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58AE566-7590-46C3-9FEB-8D2E96A12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5781815-62A0-4227-BB46-DD919C130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74C5688-0F4D-4139-8D22-20232EB0F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71225E4-C76A-447C-BC97-0286FFA78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55E8137-EB2A-4017-9A1B-DEBD434BD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B493430-1C34-4289-92A4-53C445BB4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7F86925-C2E0-40C8-8ECE-E9C1BDC1C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96D9ADC-B65C-4299-9395-27A4F8EF8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5690E1F-6C46-4EE3-9870-746D34363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C198A82-F0A9-4F6F-AF2B-EE13C17EC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4663B82-176C-40FF-A345-E826F855E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4580F34-E53C-415F-B9D0-C86EB2792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CB2D3E3-8885-4CA9-8077-0755E452A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95ECE57-D1EB-42A8-B041-9C8B9B138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B155572-4A06-4FD6-A239-70B9660B7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507AAC1-B241-4E92-839A-60C52D764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9C8BD68-AAFB-4581-A934-5F586EAF9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0D31C17-68DA-423E-B119-1D4281AD3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BCD5305-CC35-4C52-9AA3-36012EC6A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4431A1C-D50B-4DDE-85E2-16888EE6A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B422BDC-106B-4992-82F2-2B5D18B8D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35E9CEF-B8AA-4864-8F38-BC5B4B9D9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023ECF9-8253-4D0A-B538-825ADAD72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9E69C7B-E0E7-4AD1-A576-79D26AD02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EB67DD5-FA1A-4290-8517-1D02836B3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2277973-DF4F-4F86-8EE3-EB0D0B4D5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9667360-6270-4AD4-9751-393B391A6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CAA0A10-0576-4B83-9C9D-2BEF52222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72BFB95-DD60-4B07-8C50-DE4DEA614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A2E5E2A-25D8-46BF-88DF-6F39FC0BF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467B97B-27D8-4218-AF72-47375C56E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8ACA357-EFAF-42FC-80C9-375E9814C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EC2B9EC-19EC-4E61-88A9-304AF8F90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F8DE47F-8F28-4781-8048-D81391BD9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75F4245-F1CF-4E72-99D0-B27D0BF0E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4D9E075-D995-4907-B5A0-DEE9F95DB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6ECAD30-52F9-4645-92C5-52947460A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52B9456-464C-40B9-A8E8-2F5CCD2CB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0C97A71-5C5A-43F8-9DD6-9B363B825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0533D38-5C39-450C-B0F5-D6A9C07C2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2379C79-4271-4160-84DD-3657BAEAE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C1E3F77-411C-42DB-B21B-124BBD07C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EEC43C0-CB02-4626-8EC0-BFC50F3D4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72E1DC3-DFE0-44D0-859D-AE3648D40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5352FA5-7680-4324-A92F-360697052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7C9C502-440F-48E5-83D0-94033EC5D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1E52F73-52A7-48BC-A3EA-2D16F0CA9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3D10DFA-66E1-4A51-8FAB-71633836D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A97BD8E-EB62-4FAE-A119-494ACA975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9F3A625-62CD-44D5-9FCB-234DAA309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11CCE6E-7657-4302-8914-9E54564C3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E97C5A7-BE98-4772-A639-93EE30118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1F615BF-9A5D-4F6A-8351-F434B4555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ADA058A-CB45-4660-9DF8-BC1E7AA59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B0971C2-2050-4DCE-A208-5803A83C3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7F16EA9-3451-4527-AA44-30210118D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AD75AEB-D9A5-4554-9923-712BB6125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D1CDBDF-D1FA-4689-8400-1F6E216D8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4567336-41DD-4596-9B24-8071EB56D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18F2CCC-A549-4E8F-A6ED-8935C961F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86749B3-2824-4B59-B9F5-F2E5BC4D7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2FCCF79-B885-4DE0-9A9B-2AFC1ABD4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9EF6B0F-5A37-4AE2-8061-EBA353D0D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9D51A79-BE3A-40DD-B4A5-89CD52A41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FF24CAD-9CEA-47A0-B033-691601DD9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A148001-6F53-4E03-9F1A-FD87B38FD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5327C79-9562-4315-8636-756AF7FB7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C5AFA59-7165-4E71-ACF7-AB19A299F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C24F88F-26DA-4A38-B579-E810EA7E5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C25751B-CE6A-4AF6-A2BC-95D7F8F05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74EED36-6965-43C3-977B-7C2FCBF70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1AA0309-E43E-4E50-B1AD-1D8E1980F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218DC3A-1755-4CD5-8F48-A8558BEBF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4DB688E-D5C9-42AA-8382-8A42719C4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0F8A4DD-E31F-4FE8-8CEE-07EFE8404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9C83EDD-B183-4B0D-B808-D764E45AC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0AE93EC-BA72-4F8E-9251-052FCC50A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75F79F3-AFD8-4A50-989E-F3136410A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785EE9C-491A-41A3-ACE5-3461D2465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8B90797-7018-40AC-8E1C-72D2DF474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E9FC65E-EC47-49A5-8130-EF534F743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629D086-E945-46A7-A330-EE481CCE5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6775FC4-276F-4B15-8F96-64EC5BB1E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D8AD881-73CD-4183-97D7-A78AEF6C2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ooter Placeholder 3"/>
          <p:cNvSpPr/>
          <p:nvPr/>
        </p:nvSpPr>
        <p:spPr>
          <a:xfrm>
            <a:off x="1828800" y="6492960"/>
            <a:ext cx="1600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RF-PAI Items 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Footer Placeholder 3"/>
          <p:cNvSpPr/>
          <p:nvPr/>
        </p:nvSpPr>
        <p:spPr>
          <a:xfrm>
            <a:off x="4038480" y="6492960"/>
            <a:ext cx="262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essure Ulcers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Footer Placeholder 3"/>
          <p:cNvSpPr/>
          <p:nvPr/>
        </p:nvSpPr>
        <p:spPr>
          <a:xfrm>
            <a:off x="708660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3FE9-3BC9-44A2-A082-28AD883A83E9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Title_Pages_nopeople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RF-PAI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ressure Ulcer Item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Assessment and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ding Guidelines, Cont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010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if the pressure ulcer was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ent on admission and discharg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iew for location and stage at time of admission and dischar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servation period for pressure ulcer items i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 day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port unstageable pressure ulcers on the IRF-PA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em 48A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rrent Number of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tage 2 Pressure Ulcers 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m 48A Number of Stage 2 Pressure Ulcer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142640" y="1598760"/>
            <a:ext cx="754380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s number of Stage 2 pressure ulcers present at admission and dischar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" descr="Image of item 48A on the IRF-PAI item set, documenting the number of Stage 2 pressure ulcers on Admission and Discharge."/>
          <p:cNvPicPr/>
          <p:nvPr/>
        </p:nvPicPr>
        <p:blipFill>
          <a:blip r:embed="rId1"/>
          <a:stretch/>
        </p:blipFill>
        <p:spPr>
          <a:xfrm>
            <a:off x="1249200" y="3149640"/>
            <a:ext cx="758988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ge 2 Pressure Ulc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218960" y="15998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ial thicknes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of derm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ing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iny or dry 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allow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pe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lc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d or pink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und b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ithout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loug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uis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Image of a Stage 2 pressure ulcer."/>
          <p:cNvPicPr/>
          <p:nvPr/>
        </p:nvPicPr>
        <p:blipFill>
          <a:blip r:embed="rId1"/>
          <a:stretch/>
        </p:blipFill>
        <p:spPr>
          <a:xfrm>
            <a:off x="4495680" y="2133720"/>
            <a:ext cx="391968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72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Stage 2 Pressure Ulcers, Cont.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4" descr="Image of a Stage 2 pressure ulcer, presenting as an intact blister."/>
          <p:cNvPicPr/>
          <p:nvPr/>
        </p:nvPicPr>
        <p:blipFill>
          <a:blip r:embed="rId1"/>
          <a:stretch/>
        </p:blipFill>
        <p:spPr>
          <a:xfrm>
            <a:off x="1523880" y="1800360"/>
            <a:ext cx="6667560" cy="36097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487656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also present as a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act or open/ ruptur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8A Coding Guidelin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14280" y="1598400"/>
            <a:ext cx="404352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e Stage 2 pressure ulcer from a suspected deep tissue inj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only Stage 2 pressure ulcers in 48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skin tear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pe burns, Moisture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ed Skin Damag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excoriation in 48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Image of suspected deep tissue injury."/>
          <p:cNvPicPr/>
          <p:nvPr/>
        </p:nvPicPr>
        <p:blipFill>
          <a:blip r:embed="rId1"/>
          <a:stretch/>
        </p:blipFill>
        <p:spPr>
          <a:xfrm>
            <a:off x="5364000" y="3886200"/>
            <a:ext cx="2527560" cy="1981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Image of a Stage 2 pressure ulcer."/>
          <p:cNvPicPr/>
          <p:nvPr/>
        </p:nvPicPr>
        <p:blipFill>
          <a:blip r:embed="rId2"/>
          <a:srcRect l="0" t="0" r="0" b="35483"/>
          <a:stretch/>
        </p:blipFill>
        <p:spPr>
          <a:xfrm>
            <a:off x="5029200" y="1523880"/>
            <a:ext cx="3198960" cy="21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8A Coding Instruction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mission Fie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14280" y="1598760"/>
            <a:ext cx="7320240" cy="28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Stage 2 pressu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cers present on admiss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ne, 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Image of item 48A on the IRF-PAI item set, documenting the number of Stage 2 pressure ulcers on Admission and Discharge. The field for Admission is emphasized."/>
          <p:cNvPicPr/>
          <p:nvPr/>
        </p:nvPicPr>
        <p:blipFill>
          <a:blip r:embed="rId1"/>
          <a:stretch/>
        </p:blipFill>
        <p:spPr>
          <a:xfrm>
            <a:off x="1523880" y="3730680"/>
            <a:ext cx="6865920" cy="9936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5181480" y="3875040"/>
            <a:ext cx="1828800" cy="8492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Image of item 48A on the IRF-PAI item set, documenting the number of Stage 2 pressure ulcers on Admission and Discharge. The field for Discharge is emphasized."/>
          <p:cNvPicPr/>
          <p:nvPr/>
        </p:nvPicPr>
        <p:blipFill>
          <a:blip r:embed="rId1"/>
          <a:stretch/>
        </p:blipFill>
        <p:spPr>
          <a:xfrm>
            <a:off x="1409760" y="3813120"/>
            <a:ext cx="6856200" cy="9907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8A Coding Instructio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harge Fie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214280" y="1598400"/>
            <a:ext cx="7320240" cy="19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Stage 2 pressu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cers present at discharg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ne, 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6324480" y="3809880"/>
            <a:ext cx="1941480" cy="99396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ems 48B and C</a:t>
            </a:r>
            <a:br>
              <a:rPr sz="5400"/>
            </a:b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umber of Stage 3 and 4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essure Ulcers </a:t>
            </a: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ms 48B and 48C Number of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ge 3 or 4 Pressure Ulcer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219320" y="1598400"/>
            <a:ext cx="685800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the number of Stage 3 or 4 pressure ulcers present at admission and dischar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Image of item 48B on the IRF-PAI item set, documenting the number of Stage 3 pressure ulcers on Admission and Discharge."/>
          <p:cNvPicPr/>
          <p:nvPr/>
        </p:nvPicPr>
        <p:blipFill>
          <a:blip r:embed="rId1"/>
          <a:stretch/>
        </p:blipFill>
        <p:spPr>
          <a:xfrm>
            <a:off x="1447920" y="3276720"/>
            <a:ext cx="6823080" cy="914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Image of item 48C on the IRF-PAI item set, documenting the number of Stage 4 pressure ulcers on Admission and Discharge."/>
          <p:cNvPicPr/>
          <p:nvPr/>
        </p:nvPicPr>
        <p:blipFill>
          <a:blip r:embed="rId2"/>
          <a:stretch/>
        </p:blipFill>
        <p:spPr>
          <a:xfrm>
            <a:off x="1981080" y="4495680"/>
            <a:ext cx="69868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000" y="72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sentation Overvie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219320" y="1598400"/>
            <a:ext cx="723888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to Pressure Ulcers covered basic concepts associated with pressure ulcers and other skin 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esentation focuses on assessment guidelines and coding of Pressure Ulcer items in IRF-PA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ge 3 Pressure Ulc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218960" y="1599840"/>
            <a:ext cx="7391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thickn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ssue lo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cutaneou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t may b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ib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bone, tend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muscle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ough may be pres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obscure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h of tissue los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undermining and tunnel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h varies by anatomical lo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Image of a Stage 3 pressure ulcer."/>
          <p:cNvPicPr/>
          <p:nvPr/>
        </p:nvPicPr>
        <p:blipFill>
          <a:blip r:embed="rId1"/>
          <a:stretch/>
        </p:blipFill>
        <p:spPr>
          <a:xfrm>
            <a:off x="5791320" y="1981080"/>
            <a:ext cx="2801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ge 4 Pressure Ulc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3920" y="1598760"/>
            <a:ext cx="7548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thickn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ssu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osed bone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ndonor mus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ough or eschar ma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present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some par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 wound b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te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mining and tunn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h varies by anatomical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9" descr="Image of a Stage 4 pressure ulcer with undermining and tunneling."/>
          <p:cNvPicPr/>
          <p:nvPr/>
        </p:nvPicPr>
        <p:blipFill>
          <a:blip r:embed="rId1"/>
          <a:stretch/>
        </p:blipFill>
        <p:spPr>
          <a:xfrm>
            <a:off x="5486400" y="1981080"/>
            <a:ext cx="33051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Image of item 48C on the IRF-PAI item set, documenting the number of Stage 4 pressure ulcers on Admission and Discharge. The field for Admission is emphasized and coded zero."/>
          <p:cNvPicPr/>
          <p:nvPr/>
        </p:nvPicPr>
        <p:blipFill>
          <a:blip r:embed="rId1"/>
          <a:stretch/>
        </p:blipFill>
        <p:spPr>
          <a:xfrm>
            <a:off x="1905120" y="4848120"/>
            <a:ext cx="5867280" cy="10954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8B and 48C Coding Instructio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mission Fie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4280" y="1598400"/>
            <a:ext cx="732024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Stage 3 and 4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ure ulcers present on admiss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ne, 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" descr="Image of item 48B on the IRF-PAI item set, documenting the number of Stage 3 pressure ulcers on Admission and Discharge. The field for Admission is emphasized and coded one."/>
          <p:cNvPicPr/>
          <p:nvPr/>
        </p:nvPicPr>
        <p:blipFill>
          <a:blip r:embed="rId2"/>
          <a:stretch/>
        </p:blipFill>
        <p:spPr>
          <a:xfrm>
            <a:off x="1219320" y="3476520"/>
            <a:ext cx="5614920" cy="10670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0"/>
          <p:cNvSpPr/>
          <p:nvPr/>
        </p:nvSpPr>
        <p:spPr>
          <a:xfrm>
            <a:off x="4173480" y="3487680"/>
            <a:ext cx="1582920" cy="99396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5014800" y="4859280"/>
            <a:ext cx="1582920" cy="99396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8B and 48C Coding Instructio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harge Fie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18960" y="1598400"/>
            <a:ext cx="701028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Stage 3 or 4 pressure ulcers present at discharg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ne, 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Image of item 48C on the IRF-PAI item set, documenting the number of Stage 4 pressure ulcers on Admission and Discharge. The field for Discharge is emphasized and coded zero."/>
          <p:cNvPicPr/>
          <p:nvPr/>
        </p:nvPicPr>
        <p:blipFill>
          <a:blip r:embed="rId1"/>
          <a:stretch/>
        </p:blipFill>
        <p:spPr>
          <a:xfrm>
            <a:off x="2286000" y="4648320"/>
            <a:ext cx="5638680" cy="1023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Image of item 48B on the IRF-PAI item set, documenting the number of Stage 3 pressure ulcers on Admission and Discharge. The field for Discharge is emphasized and coded one."/>
          <p:cNvPicPr/>
          <p:nvPr/>
        </p:nvPicPr>
        <p:blipFill>
          <a:blip r:embed="rId2"/>
          <a:stretch/>
        </p:blipFill>
        <p:spPr>
          <a:xfrm>
            <a:off x="1371600" y="3505320"/>
            <a:ext cx="5535720" cy="8380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0"/>
          <p:cNvSpPr/>
          <p:nvPr/>
        </p:nvSpPr>
        <p:spPr>
          <a:xfrm>
            <a:off x="5410080" y="3427560"/>
            <a:ext cx="1582920" cy="9936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6313320" y="4645080"/>
            <a:ext cx="1584360" cy="9936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8 Scenario #1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218960" y="1598400"/>
            <a:ext cx="7543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dmission, one pressure ulcer wa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d and documented in the patient’s medical recor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noted to be a full thickness ulcer with no exposure of bone, tendon or mus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ther pressure ulcers were docume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Item 48 be co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enario #1 Correct Coding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218960" y="1598760"/>
            <a:ext cx="7543800" cy="13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tem 48B, Stage 3, ent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Admiss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tems 48A and C, ent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Admission fie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2"/>
          <p:cNvGrpSpPr/>
          <p:nvPr/>
        </p:nvGrpSpPr>
        <p:grpSpPr>
          <a:xfrm>
            <a:off x="1300320" y="4038480"/>
            <a:ext cx="6472080" cy="914400"/>
            <a:chOff x="1300320" y="4038480"/>
            <a:chExt cx="6472080" cy="914400"/>
          </a:xfrm>
        </p:grpSpPr>
        <p:pic>
          <p:nvPicPr>
            <p:cNvPr id="162" name="Picture 3" descr=""/>
            <p:cNvPicPr/>
            <p:nvPr/>
          </p:nvPicPr>
          <p:blipFill>
            <a:blip r:embed="rId1"/>
            <a:srcRect l="2377" t="53194" r="0" b="34576"/>
            <a:stretch/>
          </p:blipFill>
          <p:spPr>
            <a:xfrm>
              <a:off x="1300320" y="4124160"/>
              <a:ext cx="6472080" cy="828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3" name="TextBox 7"/>
            <p:cNvSpPr/>
            <p:nvPr/>
          </p:nvSpPr>
          <p:spPr>
            <a:xfrm>
              <a:off x="5226120" y="4038480"/>
              <a:ext cx="48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64" name="Group 4"/>
          <p:cNvGrpSpPr/>
          <p:nvPr/>
        </p:nvGrpSpPr>
        <p:grpSpPr>
          <a:xfrm>
            <a:off x="1300320" y="4876920"/>
            <a:ext cx="6472080" cy="914400"/>
            <a:chOff x="1300320" y="4876920"/>
            <a:chExt cx="6472080" cy="914400"/>
          </a:xfrm>
        </p:grpSpPr>
        <p:pic>
          <p:nvPicPr>
            <p:cNvPr id="165" name="Picture 3" descr="Image of item 48C on the IRF-PAI item set, documenting the number of Stage 4 pressure ulcers on Admission and Discharge. The field for Admission is coded zero."/>
            <p:cNvPicPr/>
            <p:nvPr/>
          </p:nvPicPr>
          <p:blipFill>
            <a:blip r:embed="rId2"/>
            <a:srcRect l="2377" t="87780" r="0" b="0"/>
            <a:stretch/>
          </p:blipFill>
          <p:spPr>
            <a:xfrm>
              <a:off x="1300320" y="4952880"/>
              <a:ext cx="6472080" cy="838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6" name="TextBox 8"/>
            <p:cNvSpPr/>
            <p:nvPr/>
          </p:nvSpPr>
          <p:spPr>
            <a:xfrm>
              <a:off x="5226120" y="4876920"/>
              <a:ext cx="48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67" name="Group 1"/>
          <p:cNvGrpSpPr/>
          <p:nvPr/>
        </p:nvGrpSpPr>
        <p:grpSpPr>
          <a:xfrm>
            <a:off x="1295280" y="3200400"/>
            <a:ext cx="6477120" cy="914400"/>
            <a:chOff x="1295280" y="3200400"/>
            <a:chExt cx="6477120" cy="914400"/>
          </a:xfrm>
        </p:grpSpPr>
        <p:pic>
          <p:nvPicPr>
            <p:cNvPr id="168" name="Picture 2" descr=""/>
            <p:cNvPicPr/>
            <p:nvPr/>
          </p:nvPicPr>
          <p:blipFill>
            <a:blip r:embed="rId3"/>
            <a:srcRect l="0" t="13340" r="2383" b="13340"/>
            <a:stretch/>
          </p:blipFill>
          <p:spPr>
            <a:xfrm>
              <a:off x="1295280" y="3247920"/>
              <a:ext cx="6477120" cy="8668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9" name="TextBox 9"/>
            <p:cNvSpPr/>
            <p:nvPr/>
          </p:nvSpPr>
          <p:spPr>
            <a:xfrm>
              <a:off x="5257800" y="3200400"/>
              <a:ext cx="48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8 Scenario #2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18960" y="1598400"/>
            <a:ext cx="693396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discharge, a patient has one pressure ulcer that is documented in the medical rec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sure ulcer is covered with hard black necrotic tiss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Item 48 be co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enario #2 Correct Coding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218960" y="1598400"/>
            <a:ext cx="754380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pressure ulcer is unstageab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should not be included on the IRF-PA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1"/>
          <p:cNvGrpSpPr/>
          <p:nvPr/>
        </p:nvGrpSpPr>
        <p:grpSpPr>
          <a:xfrm>
            <a:off x="1798560" y="2971800"/>
            <a:ext cx="5211720" cy="743040"/>
            <a:chOff x="1798560" y="2971800"/>
            <a:chExt cx="5211720" cy="743040"/>
          </a:xfrm>
        </p:grpSpPr>
        <p:pic>
          <p:nvPicPr>
            <p:cNvPr id="175" name="Picture 1" descr="Image of item 48A on the IRF-PAI item set, documenting the number of Stage 2 pressure ulcers on Admission and Discharge. The field for Admission and the field for Discharge are coded zero."/>
            <p:cNvPicPr/>
            <p:nvPr/>
          </p:nvPicPr>
          <p:blipFill>
            <a:blip r:embed="rId1"/>
            <a:stretch/>
          </p:blipFill>
          <p:spPr>
            <a:xfrm>
              <a:off x="1798560" y="3052440"/>
              <a:ext cx="5211720" cy="6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Box 4"/>
            <p:cNvSpPr/>
            <p:nvPr/>
          </p:nvSpPr>
          <p:spPr>
            <a:xfrm>
              <a:off x="507708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77" name="TextBox 14"/>
            <p:cNvSpPr/>
            <p:nvPr/>
          </p:nvSpPr>
          <p:spPr>
            <a:xfrm>
              <a:off x="632736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78" name="Group 2"/>
          <p:cNvGrpSpPr/>
          <p:nvPr/>
        </p:nvGrpSpPr>
        <p:grpSpPr>
          <a:xfrm>
            <a:off x="1798560" y="3925800"/>
            <a:ext cx="5211720" cy="739800"/>
            <a:chOff x="1798560" y="3925800"/>
            <a:chExt cx="5211720" cy="739800"/>
          </a:xfrm>
        </p:grpSpPr>
        <p:pic>
          <p:nvPicPr>
            <p:cNvPr id="179" name="Picture 2" descr=""/>
            <p:cNvPicPr/>
            <p:nvPr/>
          </p:nvPicPr>
          <p:blipFill>
            <a:blip r:embed="rId2"/>
            <a:stretch/>
          </p:blipFill>
          <p:spPr>
            <a:xfrm>
              <a:off x="1798560" y="3967200"/>
              <a:ext cx="521172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Box 15"/>
            <p:cNvSpPr/>
            <p:nvPr/>
          </p:nvSpPr>
          <p:spPr>
            <a:xfrm>
              <a:off x="5077080" y="3925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81" name="TextBox 16"/>
            <p:cNvSpPr/>
            <p:nvPr/>
          </p:nvSpPr>
          <p:spPr>
            <a:xfrm>
              <a:off x="6327360" y="3925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82" name="Group 3"/>
          <p:cNvGrpSpPr/>
          <p:nvPr/>
        </p:nvGrpSpPr>
        <p:grpSpPr>
          <a:xfrm>
            <a:off x="1798560" y="4910040"/>
            <a:ext cx="5211720" cy="725760"/>
            <a:chOff x="1798560" y="4910040"/>
            <a:chExt cx="5211720" cy="725760"/>
          </a:xfrm>
        </p:grpSpPr>
        <p:pic>
          <p:nvPicPr>
            <p:cNvPr id="183" name="Picture 3" descr=""/>
            <p:cNvPicPr/>
            <p:nvPr/>
          </p:nvPicPr>
          <p:blipFill>
            <a:blip r:embed="rId3"/>
            <a:stretch/>
          </p:blipFill>
          <p:spPr>
            <a:xfrm>
              <a:off x="1798560" y="4953600"/>
              <a:ext cx="5211720" cy="68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Box 17"/>
            <p:cNvSpPr/>
            <p:nvPr/>
          </p:nvSpPr>
          <p:spPr>
            <a:xfrm>
              <a:off x="5077080" y="4910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85" name="TextBox 18"/>
            <p:cNvSpPr/>
            <p:nvPr/>
          </p:nvSpPr>
          <p:spPr>
            <a:xfrm>
              <a:off x="6327360" y="4910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em 49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sening in Pressure Ulcer Status Since Admission</a:t>
            </a:r>
            <a:br>
              <a:rPr sz="4800"/>
            </a:br>
            <a:br>
              <a:rPr sz="48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m 49 Worsening Pressur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lcer Status Since Admi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42640" y="1598760"/>
            <a:ext cx="708660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the number of current pressure ulcers at discharge that that have worsened since ad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" descr="An image of the description and fields for item 49 in the IRF-PAI item set."/>
          <p:cNvPicPr/>
          <p:nvPr/>
        </p:nvPicPr>
        <p:blipFill>
          <a:blip r:embed="rId1"/>
          <a:stretch/>
        </p:blipFill>
        <p:spPr>
          <a:xfrm>
            <a:off x="1703520" y="2895480"/>
            <a:ext cx="6145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000" y="72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19320" y="1523880"/>
            <a:ext cx="7162560" cy="43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pressure ulcer items that are documented in the IRF-PA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guidelines for assessing and coding each i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the IRF-PAI pressure ulcer items correctly and accurat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m 49 Worsen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ssure Ulcer Statu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43000" y="1598400"/>
            <a:ext cx="68580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ncludes pressure ulcers at discharge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pres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d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a less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erical stag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d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Image of a pair of hands pulling a medical record from a shelf of records."/>
          <p:cNvPicPr/>
          <p:nvPr/>
        </p:nvPicPr>
        <p:blipFill>
          <a:blip r:embed="rId1"/>
          <a:stretch/>
        </p:blipFill>
        <p:spPr>
          <a:xfrm>
            <a:off x="5407200" y="2198520"/>
            <a:ext cx="25905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Coding Guidelin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216080" y="1600200"/>
            <a:ext cx="75470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ill be easier to assess worsening status and to code these items if a facility documents and tracks pressure ulcer status on a routine ba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" descr="Image of two clinicians reviewing a patient's medical record."/>
          <p:cNvPicPr/>
          <p:nvPr/>
        </p:nvPicPr>
        <p:blipFill>
          <a:blip r:embed="rId1"/>
          <a:stretch/>
        </p:blipFill>
        <p:spPr>
          <a:xfrm>
            <a:off x="3444840" y="3124080"/>
            <a:ext cx="341316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Coding Guidelines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ing a pressure ulcer that was unstageable at admi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consider it to be worse at discharge.  If it becomes stageable, consider it as present on admission.  Code at the stage when it first became stage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worsens after it becomes stageable, it should be coded as worsen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Coding Example #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tient is admitted with a pressu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cer that is covered in necrotic tissu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annot be stag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stay, the pressure ulcer is revealed to be a Stage 4 pressure ulce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this Stage 4 pressure ulcer be coded in Item 49 as a “new or worsening” pressure ulc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Coding Guidelines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218960" y="1598400"/>
            <a:ext cx="7543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ing a stageable pressure ulcer that becomes unstageable since admi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it becomes Unstageable due to Slough or Eschar, do not code as worsene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it becomes unstageable and then is debrided so it can be staged, compare its stage before and after it was unstageable. If the stage has worsened, code it as worsening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Coding Example #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tient is admitted with a Stage 3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ure ulc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stay slough covers much of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 ulcer is debrided and found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 Stage 4 pressure ulc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this Stage 4 pressure ulcer be coded in Item 49 as a “new or worsening” pressure ulc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9A Stage 2 Coding Instr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218960" y="1598760"/>
            <a:ext cx="6629400" cy="26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cate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current Stage 2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sure ulcers at discharge that were not present or were at a lesser stage on admiss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f no Stage 2 ulcers are present, are new or have worsen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" descr="Image of item 49A on the IRF-PAI item set, documenting the number of current Stage 2 pressure ulcers that were not present or were at a lesser stage on admission."/>
          <p:cNvPicPr/>
          <p:nvPr/>
        </p:nvPicPr>
        <p:blipFill>
          <a:blip r:embed="rId1"/>
          <a:stretch/>
        </p:blipFill>
        <p:spPr>
          <a:xfrm>
            <a:off x="1631880" y="4572000"/>
            <a:ext cx="65325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9B Stage 3 Coding Instr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218960" y="1598400"/>
            <a:ext cx="70866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cate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current Stage 3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sure ulcers at discharge that were not present or were at a lesser stage on admiss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f no Stage 3 pressure ulcers are present, are new, or have worsen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" descr="Image of item 49B on the IRF-PAI item set, documenting the number of current Stage 3 pressure ulcers that were not present or were at a lesser stage on admission."/>
          <p:cNvPicPr/>
          <p:nvPr/>
        </p:nvPicPr>
        <p:blipFill>
          <a:blip r:embed="rId1"/>
          <a:stretch/>
        </p:blipFill>
        <p:spPr>
          <a:xfrm>
            <a:off x="1636560" y="4724280"/>
            <a:ext cx="65772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9C Stage 4 Coding Instr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218960" y="1598400"/>
            <a:ext cx="701028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cate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current Stage 4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sure ulcers at discharge that were not present or were at a lesser stage on admiss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f no Stage 4 pressure ulcers are present, are new, or have worsen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" descr="Image of item 49C on the IRF-PAI item set, documenting the number of current Stage 4 pressure ulcers that were not present or were at a lesser stage on admission."/>
          <p:cNvPicPr/>
          <p:nvPr/>
        </p:nvPicPr>
        <p:blipFill>
          <a:blip r:embed="rId1"/>
          <a:stretch/>
        </p:blipFill>
        <p:spPr>
          <a:xfrm>
            <a:off x="1636560" y="4792680"/>
            <a:ext cx="660564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Scenario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tient’s admission assessment documented a Stage 2 pressure ulc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right ischial tubero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discharge, the pressure ulcer has deteriorated to a Stage 3 pressure ulc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ere no other pressure ulcers at admi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Item 49 be co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72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 of Pressure Ulcer Ite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238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F-PAI Pressure Ulcer It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 48.  Current Number of Unheal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ure Ulcers at Each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 49.  Worsening in Pressure Ulc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 50.  Healed Pressure Ul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enario Correct Coding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219320" y="1598760"/>
            <a:ext cx="7315200" cy="13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Item 49B, Stage 3, 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Items 49A and 49C, 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"/>
          <p:cNvGrpSpPr/>
          <p:nvPr/>
        </p:nvGrpSpPr>
        <p:grpSpPr>
          <a:xfrm>
            <a:off x="1447920" y="3220920"/>
            <a:ext cx="6521400" cy="2036880"/>
            <a:chOff x="1447920" y="3220920"/>
            <a:chExt cx="6521400" cy="2036880"/>
          </a:xfrm>
        </p:grpSpPr>
        <p:pic>
          <p:nvPicPr>
            <p:cNvPr id="218" name="Picture 1" descr=""/>
            <p:cNvPicPr/>
            <p:nvPr/>
          </p:nvPicPr>
          <p:blipFill>
            <a:blip r:embed="rId1"/>
            <a:stretch/>
          </p:blipFill>
          <p:spPr>
            <a:xfrm>
              <a:off x="1447920" y="3276000"/>
              <a:ext cx="6521400" cy="198180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219" name="TextBox 2"/>
            <p:cNvSpPr/>
            <p:nvPr/>
          </p:nvSpPr>
          <p:spPr>
            <a:xfrm>
              <a:off x="6480360" y="380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20" name="TextBox 6"/>
            <p:cNvSpPr/>
            <p:nvPr/>
          </p:nvSpPr>
          <p:spPr>
            <a:xfrm>
              <a:off x="6480360" y="3220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21" name="TextBox 7"/>
            <p:cNvSpPr/>
            <p:nvPr/>
          </p:nvSpPr>
          <p:spPr>
            <a:xfrm>
              <a:off x="6480360" y="4419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em 50</a:t>
            </a: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ealed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essure Ulcers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m 50 Healed Pressure Ulc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142640" y="1598760"/>
            <a:ext cx="7467480" cy="40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ther any unhealed pressure ulcers were present on admission (Item 50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o, the number of Stage 2, 3, and 4 pressure ulcers that have completely closed since admission (Items 50B, C, and 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50 Coding Guidelin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“healed pressure ulcer” is one that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18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ly cl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18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y epithelia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18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ed completely with epithelial tissue or resurfaced with new skin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n i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ea continues to have some surface discol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reverse st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0A Coding Instru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219320" y="1598760"/>
            <a:ext cx="7315200" cy="99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em 50A. Unhealed Pressur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lcers Present on Admi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" descr="Image of item 50A Were pressure ulcers present on admission? on the IRF-PAI item set."/>
          <p:cNvPicPr/>
          <p:nvPr/>
        </p:nvPicPr>
        <p:blipFill>
          <a:blip r:embed="rId1"/>
          <a:stretch/>
        </p:blipFill>
        <p:spPr>
          <a:xfrm>
            <a:off x="2111400" y="2941560"/>
            <a:ext cx="5280120" cy="746280"/>
          </a:xfrm>
          <a:prstGeom prst="rect">
            <a:avLst/>
          </a:prstGeom>
          <a:ln w="0">
            <a:noFill/>
          </a:ln>
        </p:spPr>
      </p:pic>
      <p:sp>
        <p:nvSpPr>
          <p:cNvPr id="230" name="Content Placeholder 2"/>
          <p:cNvSpPr/>
          <p:nvPr/>
        </p:nvSpPr>
        <p:spPr>
          <a:xfrm>
            <a:off x="1219320" y="4038480"/>
            <a:ext cx="3504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e 0. 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                          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98480" indent="-45540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p Items 50B-D.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1" name="Content Placeholder 3"/>
          <p:cNvSpPr/>
          <p:nvPr/>
        </p:nvSpPr>
        <p:spPr>
          <a:xfrm>
            <a:off x="4572000" y="4038480"/>
            <a:ext cx="4343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e 1. Yes.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34308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Items 50B-D.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50B, 50C and 50D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oding Instruction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219320" y="1598400"/>
            <a:ext cx="769608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ems 50B, C and D. Stage 2, 3 or 4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sure Ulcers on Admission That Have Hea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pressure ulcers at that stage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admission which have completely closed at discharg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none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" descr="Image of items 50B Stage 2, 50C Stage 3, and 50D Stage 4 of the IR-PAI item set. This indicates the number of pressure ulcers on admission that have healed."/>
          <p:cNvPicPr/>
          <p:nvPr/>
        </p:nvPicPr>
        <p:blipFill>
          <a:blip r:embed="rId1"/>
          <a:stretch/>
        </p:blipFill>
        <p:spPr>
          <a:xfrm>
            <a:off x="3467160" y="4049640"/>
            <a:ext cx="491472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50 Scenario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tient is admitted with one Stage 2 pressure ulc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discharge, the ulcer is heal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Items 50B, C, and D be co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enario Correct Coding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219320" y="1598400"/>
            <a:ext cx="731520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 50B.  Stage 2.  Co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the pressu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cer that hea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 50C.  Stage 3.  Co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n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 50D.  Stage 4.  Co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n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3"/>
          <p:cNvGrpSpPr/>
          <p:nvPr/>
        </p:nvGrpSpPr>
        <p:grpSpPr>
          <a:xfrm>
            <a:off x="1600200" y="3936960"/>
            <a:ext cx="6019920" cy="1854360"/>
            <a:chOff x="1600200" y="3936960"/>
            <a:chExt cx="6019920" cy="1854360"/>
          </a:xfrm>
        </p:grpSpPr>
        <p:pic>
          <p:nvPicPr>
            <p:cNvPr id="240" name="Picture 1" descr=""/>
            <p:cNvPicPr/>
            <p:nvPr/>
          </p:nvPicPr>
          <p:blipFill>
            <a:blip r:embed="rId1"/>
            <a:stretch/>
          </p:blipFill>
          <p:spPr>
            <a:xfrm>
              <a:off x="1600200" y="3936960"/>
              <a:ext cx="6019920" cy="18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Box 2"/>
            <p:cNvSpPr/>
            <p:nvPr/>
          </p:nvSpPr>
          <p:spPr>
            <a:xfrm>
              <a:off x="6180120" y="3957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42" name="TextBox 6"/>
            <p:cNvSpPr/>
            <p:nvPr/>
          </p:nvSpPr>
          <p:spPr>
            <a:xfrm>
              <a:off x="6180120" y="4491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43" name="TextBox 7"/>
            <p:cNvSpPr/>
            <p:nvPr/>
          </p:nvSpPr>
          <p:spPr>
            <a:xfrm>
              <a:off x="6180120" y="5024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72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ortance of Clinical Assess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391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lete and ongoing skin assessm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d by clinical standards is essent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ssessment, which identifies and evaluates all areas at risk for constant pressure and determines the etiology of all skin ulcers and skin conditions/problems, should direct the appropriate skin management interven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ion of Pressure Ulcer items in the IRF-PAI does not replace this assess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em 48</a:t>
            </a:r>
            <a:br>
              <a:rPr sz="5400"/>
            </a:br>
            <a:br>
              <a:rPr sz="5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rrent Number of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healed Pressure Ulcer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t Each Stage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em 48 Current Number of Unhealed Pressure Ulcers at Each St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42640" y="1598400"/>
            <a:ext cx="7543800" cy="10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s curre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unhealed pressure ulcers at Stages 2, 3 and 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" descr="Image of item 48A on the IRF-PAI item set, documenting the number of Stage 2 pressure ulcers on Admission and Discharge."/>
          <p:cNvPicPr/>
          <p:nvPr/>
        </p:nvPicPr>
        <p:blipFill>
          <a:blip r:embed="rId1"/>
          <a:stretch/>
        </p:blipFill>
        <p:spPr>
          <a:xfrm>
            <a:off x="1295280" y="2917800"/>
            <a:ext cx="5211720" cy="663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Image of item 48B on the IRF-PAI item set, documenting the number of Stage 3 pressure ulcers on Admission and Discharge."/>
          <p:cNvPicPr/>
          <p:nvPr/>
        </p:nvPicPr>
        <p:blipFill>
          <a:blip r:embed="rId2"/>
          <a:stretch/>
        </p:blipFill>
        <p:spPr>
          <a:xfrm>
            <a:off x="2271600" y="3801960"/>
            <a:ext cx="5173920" cy="693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Image of item 48C on the IRF-PAI item set, documenting the number of Stage 4 pressure ulcers on Admission and Discharge."/>
          <p:cNvPicPr/>
          <p:nvPr/>
        </p:nvPicPr>
        <p:blipFill>
          <a:blip r:embed="rId3"/>
          <a:stretch/>
        </p:blipFill>
        <p:spPr>
          <a:xfrm>
            <a:off x="3352680" y="4724280"/>
            <a:ext cx="518184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ging Defini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S has adapt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2007 NPUAP defini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ategories of stag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:  www.npuap.or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 diagrams of ulc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s can be download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ducational u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Image of the National Pressure Ulcer Advisory Panel logo. Reproduced by permission."/>
          <p:cNvPicPr/>
          <p:nvPr/>
        </p:nvPicPr>
        <p:blipFill>
          <a:blip r:embed="rId1"/>
          <a:srcRect l="3892" t="0" r="67460" b="0"/>
          <a:stretch/>
        </p:blipFill>
        <p:spPr>
          <a:xfrm>
            <a:off x="5638680" y="3124080"/>
            <a:ext cx="2878200" cy="173844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107" name="TextBox 1"/>
          <p:cNvSpPr/>
          <p:nvPr/>
        </p:nvSpPr>
        <p:spPr>
          <a:xfrm>
            <a:off x="5636880" y="4865760"/>
            <a:ext cx="210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d with permission</a:t>
            </a: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Assessment and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ding Guideli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curre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unheal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c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ead-to-toe assessment of pat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visual inspection and palpation to identify appropriate s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only wounds that are the result of pres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deepest anatomical stage of each ul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reverse st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9:19:05Z</dcterms:created>
  <dc:creator>Centers for Medicare &amp; Medicaid Services</dc:creator>
  <dc:description/>
  <dc:language>en-US</dc:language>
  <cp:lastModifiedBy>Jennifer Parrish</cp:lastModifiedBy>
  <cp:lastPrinted>2007-05-20T22:53:41Z</cp:lastPrinted>
  <dcterms:modified xsi:type="dcterms:W3CDTF">2012-05-14T13:15:57Z</dcterms:modified>
  <cp:revision>1302</cp:revision>
  <dc:subject>MDS Training Materials</dc:subject>
  <dc:title>Section M Skin Condi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4302051</vt:r8>
  </property>
  <property fmtid="{D5CDD505-2E9C-101B-9397-08002B2CF9AE}" pid="3" name="_AuthorEmail">
    <vt:lpwstr>Caroline.Gallaher@cms.hhs.gov</vt:lpwstr>
  </property>
  <property fmtid="{D5CDD505-2E9C-101B-9397-08002B2CF9AE}" pid="4" name="_AuthorEmailDisplayName">
    <vt:lpwstr>Gallaher, Caroline D. (CMS/OCSQ)</vt:lpwstr>
  </property>
  <property fmtid="{D5CDD505-2E9C-101B-9397-08002B2CF9AE}" pid="5" name="_EmailSubject">
    <vt:lpwstr>Here are the Powerpoint slides and presentation handouts that I mentioned to you yesterday that ii will also need to have posted on the IRF QRP webpage</vt:lpwstr>
  </property>
  <property fmtid="{D5CDD505-2E9C-101B-9397-08002B2CF9AE}" pid="6" name="_NewReviewCycle">
    <vt:lpwstr/>
  </property>
</Properties>
</file>